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158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88E-8D0B-4326-B28D-97B29C6E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5CB-2D7D-45FE-84B0-B6009FF5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A29-BF22-4378-AF45-190E444A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3BC-AC44-47FB-AF5F-3255758A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2B5-AEC9-493E-ADED-91D394D0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FE9-7497-4691-866A-D1EC44CC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DCD0-3612-4C39-B939-D5057906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56A9-0069-42C7-AB11-1FBA735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DC3-20EA-4D28-A5C1-65A7096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A0F2-B9EC-4729-BAD5-96EADCF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E88-E1C0-4275-8D49-1111BE35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2DD-2DFB-4FBE-AB95-1B4333FB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198D-2D74-48BE-ABE6-077031A55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7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4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23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54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09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6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5960" y="4110120"/>
              <a:ext cx="18288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Text in Engli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……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question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37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374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377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 Remember to address me politely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84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386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389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 Remember to address me politely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9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398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401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40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410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413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66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68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71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7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80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81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83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90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92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95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02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104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107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14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Cesar and I am from the U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20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Paula y soy de El Salvado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23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Paula and I am from 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¿De dónde eres?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12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Beatriz and I am from the Dominican Republ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32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iguel and I am from the Sp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rcRect l="22430" t="16405" r="47044" b="21876"/>
          <a:stretch/>
        </p:blipFill>
        <p:spPr>
          <a:xfrm>
            <a:off x="468360" y="228600"/>
            <a:ext cx="1276200" cy="20574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rcRect l="65424" t="16405" r="9036" b="21876"/>
          <a:stretch/>
        </p:blipFill>
        <p:spPr>
          <a:xfrm>
            <a:off x="2894040" y="228600"/>
            <a:ext cx="1068480" cy="2057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rcRect l="34270" t="16405" r="34579" b="21093"/>
          <a:stretch/>
        </p:blipFill>
        <p:spPr>
          <a:xfrm>
            <a:off x="5038560" y="228600"/>
            <a:ext cx="128592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rcRect l="33022" t="39064" r="32710" b="7811"/>
          <a:stretch/>
        </p:blipFill>
        <p:spPr>
          <a:xfrm>
            <a:off x="7315200" y="304920"/>
            <a:ext cx="1479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144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147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54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156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159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166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168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69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171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17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180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183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190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Marina and I am from 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196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23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Robito and I am from Hola Ami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02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Eduardo and I am from Pe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08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atthew and I am from Ukra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" name="" descr=""/>
          <p:cNvPicPr/>
          <p:nvPr/>
        </p:nvPicPr>
        <p:blipFill>
          <a:blip r:embed="rId1"/>
          <a:srcRect l="14469" t="21093" r="54410" b="8594"/>
          <a:stretch/>
        </p:blipFill>
        <p:spPr>
          <a:xfrm>
            <a:off x="534960" y="228600"/>
            <a:ext cx="1141560" cy="20574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52509" t="28901" r="12912" b="8594"/>
          <a:stretch/>
        </p:blipFill>
        <p:spPr>
          <a:xfrm>
            <a:off x="2687760" y="152280"/>
            <a:ext cx="1427040" cy="20574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rcRect l="37355" t="19517" r="21400" b="9251"/>
          <a:stretch/>
        </p:blipFill>
        <p:spPr>
          <a:xfrm>
            <a:off x="5029200" y="304920"/>
            <a:ext cx="138276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rcRect l="61683" t="28908" r="9347" b="15626"/>
          <a:stretch/>
        </p:blipFill>
        <p:spPr>
          <a:xfrm>
            <a:off x="7238880" y="152280"/>
            <a:ext cx="1346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18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220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223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230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232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235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42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244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247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54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256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259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66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7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Cuauhtémoc and I am from Me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272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Jenny y soy de 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23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Jenny and I am from Ca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278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Ernesto and I am from 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284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Teresa and I am from 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1"/>
          <a:srcRect l="28040" t="28126" r="48289" b="14065"/>
          <a:stretch/>
        </p:blipFill>
        <p:spPr>
          <a:xfrm>
            <a:off x="581040" y="152280"/>
            <a:ext cx="1095480" cy="2133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rcRect l="64179" t="28126" r="8724" b="14065"/>
          <a:stretch/>
        </p:blipFill>
        <p:spPr>
          <a:xfrm>
            <a:off x="2828880" y="152280"/>
            <a:ext cx="1209600" cy="20574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rcRect l="64800" t="27343" r="8412" b="14065"/>
          <a:stretch/>
        </p:blipFill>
        <p:spPr>
          <a:xfrm>
            <a:off x="5111640" y="152280"/>
            <a:ext cx="1136880" cy="1981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/>
          <a:srcRect l="27416" t="27343" r="47665" b="14065"/>
          <a:stretch/>
        </p:blipFill>
        <p:spPr>
          <a:xfrm>
            <a:off x="7467480" y="152280"/>
            <a:ext cx="1096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294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189720" y="304920"/>
              <a:ext cx="1845000" cy="457200"/>
              <a:chOff x="189720" y="304920"/>
              <a:chExt cx="1845000" cy="457200"/>
            </a:xfrm>
          </p:grpSpPr>
          <p:sp>
            <p:nvSpPr>
              <p:cNvPr id="296" name=""/>
              <p:cNvSpPr txBox="1"/>
              <p:nvPr/>
            </p:nvSpPr>
            <p:spPr>
              <a:xfrm>
                <a:off x="358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 rot="7186800">
                <a:off x="241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152280" y="762120"/>
              <a:ext cx="1981440" cy="5715000"/>
              <a:chOff x="152280" y="762120"/>
              <a:chExt cx="1981440" cy="5715000"/>
            </a:xfrm>
          </p:grpSpPr>
          <p:sp>
            <p:nvSpPr>
              <p:cNvPr id="299" name=""/>
              <p:cNvSpPr/>
              <p:nvPr/>
            </p:nvSpPr>
            <p:spPr>
              <a:xfrm>
                <a:off x="152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52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52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52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52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06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2475720" y="304920"/>
              <a:ext cx="1845000" cy="457200"/>
              <a:chOff x="2475720" y="304920"/>
              <a:chExt cx="1845000" cy="457200"/>
            </a:xfrm>
          </p:grpSpPr>
          <p:sp>
            <p:nvSpPr>
              <p:cNvPr id="308" name=""/>
              <p:cNvSpPr txBox="1"/>
              <p:nvPr/>
            </p:nvSpPr>
            <p:spPr>
              <a:xfrm>
                <a:off x="2644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 rot="7186800">
                <a:off x="2527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438280" y="762120"/>
              <a:ext cx="1981440" cy="5715000"/>
              <a:chOff x="2438280" y="762120"/>
              <a:chExt cx="1981440" cy="5715000"/>
            </a:xfrm>
          </p:grpSpPr>
          <p:sp>
            <p:nvSpPr>
              <p:cNvPr id="311" name=""/>
              <p:cNvSpPr/>
              <p:nvPr/>
            </p:nvSpPr>
            <p:spPr>
              <a:xfrm>
                <a:off x="2438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438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438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438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438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438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18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4761720" y="304920"/>
              <a:ext cx="1845000" cy="457200"/>
              <a:chOff x="4761720" y="304920"/>
              <a:chExt cx="1845000" cy="457200"/>
            </a:xfrm>
          </p:grpSpPr>
          <p:sp>
            <p:nvSpPr>
              <p:cNvPr id="320" name=""/>
              <p:cNvSpPr txBox="1"/>
              <p:nvPr/>
            </p:nvSpPr>
            <p:spPr>
              <a:xfrm>
                <a:off x="4930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 rot="7186800">
                <a:off x="4813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724280" y="762120"/>
              <a:ext cx="1981440" cy="5715000"/>
              <a:chOff x="4724280" y="762120"/>
              <a:chExt cx="1981440" cy="5715000"/>
            </a:xfrm>
          </p:grpSpPr>
          <p:sp>
            <p:nvSpPr>
              <p:cNvPr id="323" name=""/>
              <p:cNvSpPr/>
              <p:nvPr/>
            </p:nvSpPr>
            <p:spPr>
              <a:xfrm>
                <a:off x="4724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724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724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4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4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24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33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7047720" y="304920"/>
              <a:ext cx="1845000" cy="457200"/>
              <a:chOff x="7047720" y="304920"/>
              <a:chExt cx="1845000" cy="457200"/>
            </a:xfrm>
          </p:grpSpPr>
          <p:sp>
            <p:nvSpPr>
              <p:cNvPr id="332" name=""/>
              <p:cNvSpPr txBox="1"/>
              <p:nvPr/>
            </p:nvSpPr>
            <p:spPr>
              <a:xfrm>
                <a:off x="7216560" y="304920"/>
                <a:ext cx="1676160" cy="4572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Hola Amigos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 rot="7186800">
                <a:off x="7099200" y="462240"/>
                <a:ext cx="98640" cy="176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3069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!</a:t>
                </a:r>
                <a:endPara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7010280" y="762120"/>
              <a:ext cx="1981440" cy="5715000"/>
              <a:chOff x="7010280" y="762120"/>
              <a:chExt cx="1981440" cy="5715000"/>
            </a:xfrm>
          </p:grpSpPr>
          <p:sp>
            <p:nvSpPr>
              <p:cNvPr id="335" name=""/>
              <p:cNvSpPr/>
              <p:nvPr/>
            </p:nvSpPr>
            <p:spPr>
              <a:xfrm>
                <a:off x="7010280" y="762120"/>
                <a:ext cx="198144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663300"/>
                    </a:solidFill>
                    <a:latin typeface="Arial"/>
                  </a:rPr>
                  <a:t>?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010280" y="2087640"/>
                <a:ext cx="1981440" cy="1523880"/>
              </a:xfrm>
              <a:prstGeom prst="foldedCorner">
                <a:avLst>
                  <a:gd name="adj" fmla="val 12500"/>
                </a:avLst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iscover something else about me. Ask these questions around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010280" y="371808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like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010280" y="443376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hat do you do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10280" y="5149800"/>
                <a:ext cx="1981440" cy="60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hat is your favourite subject?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010280" y="5867280"/>
                <a:ext cx="1981440" cy="609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In Spanish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How old are you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85680" y="57240"/>
            <a:ext cx="2124000" cy="6705360"/>
            <a:chOff x="85680" y="57240"/>
            <a:chExt cx="2124000" cy="6705360"/>
          </a:xfrm>
        </p:grpSpPr>
        <p:sp>
          <p:nvSpPr>
            <p:cNvPr id="342" name=""/>
            <p:cNvSpPr/>
            <p:nvPr/>
          </p:nvSpPr>
          <p:spPr>
            <a:xfrm>
              <a:off x="85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1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7960" y="4110120"/>
              <a:ext cx="182880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i. My name is Lucía and I am from Sp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r>
                <a:rPr b="0" lang="es-CO" sz="12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371680" y="57240"/>
            <a:ext cx="2124000" cy="6705360"/>
            <a:chOff x="2371680" y="57240"/>
            <a:chExt cx="2124000" cy="6705360"/>
          </a:xfrm>
        </p:grpSpPr>
        <p:sp>
          <p:nvSpPr>
            <p:cNvPr id="348" name=""/>
            <p:cNvSpPr/>
            <p:nvPr/>
          </p:nvSpPr>
          <p:spPr>
            <a:xfrm>
              <a:off x="2371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7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38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200" spc="-1" strike="noStrike">
                  <a:solidFill>
                    <a:srgbClr val="000000"/>
                  </a:solidFill>
                  <a:latin typeface="Verdana"/>
                </a:rPr>
                <a:t>¡Hola! Yo me llamo Marc, soy el hermano de Jenny  y soy de 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3960" y="4110120"/>
              <a:ext cx="1828800" cy="824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arc and I am Jenny’s brother. I am from Ca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48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res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57680" y="57240"/>
            <a:ext cx="2124000" cy="6705360"/>
            <a:chOff x="4657680" y="57240"/>
            <a:chExt cx="2124000" cy="6705360"/>
          </a:xfrm>
        </p:grpSpPr>
        <p:sp>
          <p:nvSpPr>
            <p:cNvPr id="354" name=""/>
            <p:cNvSpPr/>
            <p:nvPr/>
          </p:nvSpPr>
          <p:spPr>
            <a:xfrm>
              <a:off x="4657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53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24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09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My name is Mr. Marquez and I am from 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34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s Ud.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943680" y="57240"/>
            <a:ext cx="2124000" cy="6705360"/>
            <a:chOff x="6943680" y="57240"/>
            <a:chExt cx="2124000" cy="6705360"/>
          </a:xfrm>
        </p:grpSpPr>
        <p:sp>
          <p:nvSpPr>
            <p:cNvPr id="360" name=""/>
            <p:cNvSpPr/>
            <p:nvPr/>
          </p:nvSpPr>
          <p:spPr>
            <a:xfrm>
              <a:off x="6943680" y="57240"/>
              <a:ext cx="2124000" cy="6705360"/>
            </a:xfrm>
            <a:custGeom>
              <a:avLst/>
              <a:gdLst>
                <a:gd name="textAreaLeft" fmla="*/ 103680 w 2124000"/>
                <a:gd name="textAreaRight" fmla="*/ 2020320 w 2124000"/>
                <a:gd name="textAreaTop" fmla="*/ 103680 h 6705360"/>
                <a:gd name="textAreaBottom" fmla="*/ 6601680 h 6705360"/>
              </a:gdLst>
              <a:ahLst/>
              <a:rect l="textAreaLeft" t="textAreaTop" r="textAreaRight" b="textAreaBottom"/>
              <a:pathLst>
                <a:path w="21600" h="68182">
                  <a:moveTo>
                    <a:pt x="3600" y="0"/>
                  </a:moveTo>
                  <a:arcTo wR="3600" hR="3600" stAng="16200000" swAng="-5400000"/>
                  <a:lnTo>
                    <a:pt x="0" y="64582"/>
                  </a:lnTo>
                  <a:arcTo wR="3600" hR="3600" stAng="10800000" swAng="-5400000"/>
                  <a:lnTo>
                    <a:pt x="18000" y="681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39080" y="133200"/>
              <a:ext cx="1904760" cy="2210040"/>
            </a:xfrm>
            <a:custGeom>
              <a:avLst/>
              <a:gdLst>
                <a:gd name="textAreaLeft" fmla="*/ 92880 w 1904760"/>
                <a:gd name="textAreaRight" fmla="*/ 1811880 w 1904760"/>
                <a:gd name="textAreaTop" fmla="*/ 92880 h 2210040"/>
                <a:gd name="textAreaBottom" fmla="*/ 2117160 h 2210040"/>
              </a:gdLst>
              <a:ahLst/>
              <a:rect l="textAreaLeft" t="textAreaTop" r="textAreaRight" b="textAreaBottom"/>
              <a:pathLst>
                <a:path w="21600" h="25061">
                  <a:moveTo>
                    <a:pt x="3600" y="0"/>
                  </a:moveTo>
                  <a:arcTo wR="3600" hR="3600" stAng="16200000" swAng="-5400000"/>
                  <a:lnTo>
                    <a:pt x="0" y="21461"/>
                  </a:lnTo>
                  <a:arcTo wR="3600" hR="3600" stAng="10800000" swAng="-5400000"/>
                  <a:lnTo>
                    <a:pt x="18000" y="250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cap="rnd" w="38160">
              <a:solidFill>
                <a:srgbClr val="66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0280" y="2495520"/>
              <a:ext cx="1914480" cy="1447920"/>
            </a:xfrm>
            <a:prstGeom prst="wedgeRoundRectCallout">
              <a:avLst>
                <a:gd name="adj1" fmla="val 27361"/>
                <a:gd name="adj2" fmla="val -65240"/>
                <a:gd name="adj3" fmla="val 16667"/>
              </a:avLst>
            </a:prstGeom>
            <a:solidFill>
              <a:srgbClr val="ccecff"/>
            </a:solidFill>
            <a:ln w="9360">
              <a:solidFill>
                <a:srgbClr val="6633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5960" y="4110120"/>
              <a:ext cx="1828800" cy="641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660033"/>
                  </a:solidFill>
                  <a:latin typeface="Verdana"/>
                </a:rPr>
                <a:t>Hello. I am Teresa’s grandma and I am from Guatemala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0000" y="5162400"/>
              <a:ext cx="1981080" cy="1371600"/>
            </a:xfrm>
            <a:prstGeom prst="foldedCorner">
              <a:avLst>
                <a:gd name="adj" fmla="val 12500"/>
              </a:avLst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 can answer to a question about ori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¿</a:t>
              </a:r>
              <a:r>
                <a:rPr b="1" lang="es-CO" sz="1400" spc="-1" strike="noStrike">
                  <a:solidFill>
                    <a:srgbClr val="ffffff"/>
                  </a:solidFill>
                  <a:latin typeface="Verdana"/>
                </a:rPr>
                <a:t>De dónde es Ud.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5" name="" descr=""/>
          <p:cNvPicPr/>
          <p:nvPr/>
        </p:nvPicPr>
        <p:blipFill>
          <a:blip r:embed="rId1"/>
          <a:srcRect l="28040" t="28908" r="44551" b="16405"/>
          <a:stretch/>
        </p:blipFill>
        <p:spPr>
          <a:xfrm>
            <a:off x="476280" y="228600"/>
            <a:ext cx="1246320" cy="19810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rcRect l="33178" t="26564" r="30685" b="21876"/>
          <a:stretch/>
        </p:blipFill>
        <p:spPr>
          <a:xfrm>
            <a:off x="2590920" y="380880"/>
            <a:ext cx="1539720" cy="17528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5029200" y="228600"/>
            <a:ext cx="1523880" cy="1981080"/>
            <a:chOff x="5029200" y="228600"/>
            <a:chExt cx="1523880" cy="1981080"/>
          </a:xfrm>
        </p:grpSpPr>
        <p:pic>
          <p:nvPicPr>
            <p:cNvPr id="368" name="" descr=""/>
            <p:cNvPicPr/>
            <p:nvPr/>
          </p:nvPicPr>
          <p:blipFill>
            <a:blip r:embed="rId3"/>
            <a:srcRect l="13085" t="31253" r="60126" b="20315"/>
            <a:stretch/>
          </p:blipFill>
          <p:spPr>
            <a:xfrm>
              <a:off x="5029200" y="228600"/>
              <a:ext cx="13748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248520" y="533520"/>
              <a:ext cx="304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" descr=""/>
          <p:cNvPicPr/>
          <p:nvPr/>
        </p:nvPicPr>
        <p:blipFill>
          <a:blip r:embed="rId4"/>
          <a:srcRect l="54363" t="25003" r="31309" b="22659"/>
          <a:stretch/>
        </p:blipFill>
        <p:spPr>
          <a:xfrm>
            <a:off x="7620120" y="228600"/>
            <a:ext cx="706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21:31:37Z</dcterms:created>
  <dc:creator>Valeria.Palladino</dc:creator>
  <dc:description/>
  <dc:language>en-US</dc:language>
  <cp:lastModifiedBy>Home</cp:lastModifiedBy>
  <dcterms:modified xsi:type="dcterms:W3CDTF">2010-02-06T18:44:07Z</dcterms:modified>
  <cp:revision>14</cp:revision>
  <dc:subject/>
  <dc:title>Slide 1</dc:title>
</cp:coreProperties>
</file>